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7E95-E5C0-48FD-95D1-EDF5C9094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12120"/>
            <a:ext cx="83055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4524-C130-4D29-8FDD-F3F02DF9C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048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F96F-177F-4C6C-ADC9-B7FCABEB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560" y="152388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0920" y="152388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1212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560" y="391212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0920" y="3912120"/>
            <a:ext cx="2674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5E4C-177C-40BA-A927-505A6D4A8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A055-755A-4B75-8B96-54D265816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EF94-3D21-4969-8725-A862AE4F7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7737-8C12-4E0E-A3D8-7D21EDBCD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AAAE-6199-462C-90B7-C60183FCD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3C85-9A8C-4F4A-A352-13A9D751F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1640-71D0-4199-B803-6BE35F638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0480" y="391212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134F-7002-4762-AE23-FE5EF9C5B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523880"/>
            <a:ext cx="405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12120"/>
            <a:ext cx="83055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0050-2382-4F5C-905E-649A42A2F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237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237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69320" y="6485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lstStyle>
            <a:lvl1pPr lvl="2" marL="228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2" marL="228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569-2BEF-4BCF-97FA-29405ED8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02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e2700"/>
                </a:solidFill>
                <a:latin typeface="Arial"/>
              </a:rPr>
              <a:t>Scheduling</a:t>
            </a:r>
            <a:endParaRPr b="0" lang="en-US" sz="60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B750-FDB9-47F8-BA99-3DBAE4093A68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504720"/>
            <a:ext cx="8458200" cy="40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Priority Rul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CFS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first come, first served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PT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shortest processing time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EDD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earliest due date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CR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- critical ratio</a:t>
            </a:r>
            <a:endParaRPr b="0" lang="en-US" sz="1600" spc="-1" strike="noStrike">
              <a:solidFill>
                <a:srgbClr val="ce27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=time remaining / processing time</a:t>
            </a:r>
            <a:endParaRPr b="0" lang="en-US" sz="16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S/O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e2700"/>
                </a:solidFill>
                <a:latin typeface="Arial"/>
              </a:rPr>
              <a:t>- slack per operation</a:t>
            </a:r>
            <a:endParaRPr b="0" lang="en-US" sz="1600" spc="-1" strike="noStrike">
              <a:solidFill>
                <a:srgbClr val="ce27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237a0"/>
                </a:solidFill>
                <a:latin typeface="Arial"/>
              </a:rPr>
              <a:t>=slack remaining / # of operations remaining</a:t>
            </a:r>
            <a:endParaRPr b="0" lang="en-US" sz="16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Rush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emergency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55F5-09D0-42E2-B94C-D782CAFC67DA}" type="slidenum">
              <a:t>10</a:t>
            </a:fld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Performance measur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low time of a job: Duration of time from a job enters into the system until it leave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Lateness of a job: Amount by which completion date exceeds due date. Could be negative.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Tardiness=max(lateness,0)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Makespan: total time needed to finish a group of job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Average number of jobs until the last is finished: 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=Total flow time / Makespan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542B-D497-4D63-B53D-FB4DDAB7BC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: Average number of job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s: A and B with processing times 10 each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6360" y="1981080"/>
            <a:ext cx="8473680" cy="3730320"/>
            <a:chOff x="306360" y="1981080"/>
            <a:chExt cx="8473680" cy="3730320"/>
          </a:xfrm>
        </p:grpSpPr>
        <p:sp>
          <p:nvSpPr>
            <p:cNvPr id="128" name=""/>
            <p:cNvSpPr/>
            <p:nvPr/>
          </p:nvSpPr>
          <p:spPr>
            <a:xfrm>
              <a:off x="1082880" y="2447640"/>
              <a:ext cx="0" cy="28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82880" y="526716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2880" y="4200120"/>
              <a:ext cx="2819160" cy="1067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82880" y="3133440"/>
              <a:ext cx="2819160" cy="106668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2040" y="4200120"/>
              <a:ext cx="2819520" cy="106704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30440" y="5181480"/>
              <a:ext cx="34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finishes at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360" y="1981080"/>
              <a:ext cx="24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umber of jo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280" y="388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120" y="2828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26280" y="519084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 finishes at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50880" y="51051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18400" y="5781600"/>
            <a:ext cx="577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pan=20, Total Flow time=10+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number of jobs=30/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65760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4440" y="303840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number of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5046-2C96-40AD-934A-46BDDC6D3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: Sequencing rul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47920" y="1676520"/>
          <a:ext cx="708660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2971800"/>
                <a:gridCol w="25909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essing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=Due 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7456-2D35-4CE3-BA05-DC5016EDB1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: FCF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76520"/>
          <a:ext cx="8381880" cy="4800600"/>
        </p:xfrm>
        <a:graphic>
          <a:graphicData uri="http://schemas.openxmlformats.org/drawingml/2006/table">
            <a:tbl>
              <a:tblPr/>
              <a:tblGrid>
                <a:gridCol w="1193760"/>
                <a:gridCol w="1778040"/>
                <a:gridCol w="1752480"/>
                <a:gridCol w="1295640"/>
                <a:gridCol w="1218960"/>
                <a:gridCol w="11430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.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Flow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5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4CF9-DD5E-423C-A5F9-D1E9ED8E1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: SPT to minimize the total flow time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76520"/>
          <a:ext cx="8381880" cy="4800600"/>
        </p:xfrm>
        <a:graphic>
          <a:graphicData uri="http://schemas.openxmlformats.org/drawingml/2006/table">
            <a:tbl>
              <a:tblPr/>
              <a:tblGrid>
                <a:gridCol w="1193760"/>
                <a:gridCol w="1778040"/>
                <a:gridCol w="1752480"/>
                <a:gridCol w="1295640"/>
                <a:gridCol w="1143000"/>
                <a:gridCol w="12189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.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Flow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-1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2F03-8214-48C8-95F6-59B7EC4F7D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: EDD to minimize the maximum latenes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76520"/>
          <a:ext cx="8381880" cy="4800600"/>
        </p:xfrm>
        <a:graphic>
          <a:graphicData uri="http://schemas.openxmlformats.org/drawingml/2006/table">
            <a:tbl>
              <a:tblPr/>
              <a:tblGrid>
                <a:gridCol w="1193760"/>
                <a:gridCol w="1778040"/>
                <a:gridCol w="1752480"/>
                <a:gridCol w="1295640"/>
                <a:gridCol w="1218960"/>
                <a:gridCol w="11430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.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Flow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v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4E0C-7C28-45EE-B991-4D8ED2095A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59440" y="5545080"/>
            <a:ext cx="2541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25720" y="5545080"/>
            <a:ext cx="2133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44640" y="5545080"/>
            <a:ext cx="19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5545080"/>
            <a:ext cx="1235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59440" y="5410080"/>
            <a:ext cx="25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235/74=3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5720" y="533412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Times New Roman"/>
              </a:rPr>
              <a:t>6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4640" y="5486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48640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59440" y="4724280"/>
            <a:ext cx="2541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Times New Roman"/>
              </a:rPr>
              <a:t>135/74=1.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5720" y="4876920"/>
            <a:ext cx="2133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44640" y="4800600"/>
            <a:ext cx="1981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876920"/>
            <a:ext cx="123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S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59440" y="4160880"/>
            <a:ext cx="2541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268/74=3.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5720" y="4160880"/>
            <a:ext cx="2133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4640" y="4160880"/>
            <a:ext cx="1981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5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160880"/>
            <a:ext cx="1235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Times New Roman"/>
              </a:rPr>
              <a:t>FC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9440" y="2362320"/>
            <a:ext cx="2541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Averag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Number of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Jobs at th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Work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25720" y="2362320"/>
            <a:ext cx="2133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Averag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Tardiness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(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4640" y="2362320"/>
            <a:ext cx="19810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Averag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Flow Time</a:t>
            </a: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(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362320"/>
            <a:ext cx="12351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e2700"/>
                </a:solidFill>
                <a:latin typeface="Times New Roman"/>
              </a:rPr>
              <a:t>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4160880"/>
            <a:ext cx="78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209680"/>
            <a:ext cx="0" cy="357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503280"/>
            <a:ext cx="8534520" cy="40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 summary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B691-3064-4431-B92F-709D09D5E7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52344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Two Work Center Sequencing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33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Johnson’s Rule</a:t>
            </a: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technique for minimizing completion time for a group of jobs to be processed on two machines or at two work centers.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Minimizes total idle time and the makespan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veral conditions must be satisfie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B8D3-225F-440B-BBB7-27C3BCDDCAB5}" type="slidenum">
              <a:t>1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52080"/>
            <a:ext cx="8610480" cy="55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Johnson’s Rule Condition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 time must be known and constant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 times must be independent of sequenc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s must follow same two-step sequenc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Job priorities cannot be use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All units must be completed at the first </a:t>
            </a:r>
            <a:br>
              <a:rPr sz="3200"/>
            </a:b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work center before moving to the secon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BE62-22B8-42C0-A0D4-D4DA74171ADB}" type="slidenum">
              <a:t>19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ing: Establishing the timing of the use of equipment, facilities and human activities in an organization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Answering “when” question for activitie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120" y="376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cheduling 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95280" y="3352680"/>
            <a:ext cx="5702400" cy="3504960"/>
            <a:chOff x="1295280" y="3352680"/>
            <a:chExt cx="5702400" cy="3504960"/>
          </a:xfrm>
        </p:grpSpPr>
        <p:sp>
          <p:nvSpPr>
            <p:cNvPr id="46" name=""/>
            <p:cNvSpPr/>
            <p:nvPr/>
          </p:nvSpPr>
          <p:spPr>
            <a:xfrm>
              <a:off x="1295280" y="3352680"/>
              <a:ext cx="901800" cy="3504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440" bIns="514440" anchor="t">
              <a:no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uild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09680" y="3352680"/>
              <a:ext cx="4788000" cy="3504600"/>
              <a:chOff x="2209680" y="3352680"/>
              <a:chExt cx="4788000" cy="3504600"/>
            </a:xfrm>
          </p:grpSpPr>
          <p:sp>
            <p:nvSpPr>
              <p:cNvPr id="48" name=""/>
              <p:cNvSpPr/>
              <p:nvPr/>
            </p:nvSpPr>
            <p:spPr>
              <a:xfrm>
                <a:off x="2209680" y="3352680"/>
                <a:ext cx="4788000" cy="350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20968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0996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E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988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016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P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41008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10360" y="3352680"/>
                <a:ext cx="787320" cy="333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9320" bIns="49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0720"/>
                    <a:tab algn="l" pos="1441440"/>
                    <a:tab algn="l" pos="2162160"/>
                    <a:tab algn="l" pos="2882880"/>
                    <a:tab algn="l" pos="3603600"/>
                    <a:tab algn="l" pos="4324320"/>
                    <a:tab algn="l" pos="5045040"/>
                    <a:tab algn="l" pos="5765760"/>
                    <a:tab algn="l" pos="6486480"/>
                    <a:tab algn="l" pos="7207200"/>
                    <a:tab algn="l" pos="7927920"/>
                    <a:tab algn="l" pos="8648640"/>
                    <a:tab algn="l" pos="9369360"/>
                    <a:tab algn="l" pos="10090080"/>
                    <a:tab algn="l" pos="108108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U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230200" y="3692160"/>
                <a:ext cx="4748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0348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0340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60368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0360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03880" y="3706200"/>
                <a:ext cx="0" cy="314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324160" y="3871440"/>
              <a:ext cx="1015200" cy="159840"/>
              <a:chOff x="2324160" y="3871440"/>
              <a:chExt cx="1015200" cy="159840"/>
            </a:xfrm>
          </p:grpSpPr>
          <p:sp>
            <p:nvSpPr>
              <p:cNvPr id="62" name=""/>
              <p:cNvSpPr/>
              <p:nvPr/>
            </p:nvSpPr>
            <p:spPr>
              <a:xfrm>
                <a:off x="2446200" y="3966120"/>
                <a:ext cx="77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4160" y="3871440"/>
                <a:ext cx="158760" cy="159840"/>
              </a:xfrm>
              <a:prstGeom prst="triangle">
                <a:avLst>
                  <a:gd name="adj" fmla="val 49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10800000">
                <a:off x="3180240" y="3871440"/>
                <a:ext cx="158760" cy="159840"/>
              </a:xfrm>
              <a:prstGeom prst="triangle">
                <a:avLst>
                  <a:gd name="adj" fmla="val 49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181320" y="4246200"/>
              <a:ext cx="158760" cy="160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181320" y="4650120"/>
              <a:ext cx="1015920" cy="159840"/>
              <a:chOff x="3181320" y="4650120"/>
              <a:chExt cx="1015920" cy="159840"/>
            </a:xfrm>
          </p:grpSpPr>
          <p:sp>
            <p:nvSpPr>
              <p:cNvPr id="67" name=""/>
              <p:cNvSpPr/>
              <p:nvPr/>
            </p:nvSpPr>
            <p:spPr>
              <a:xfrm>
                <a:off x="3303360" y="4729680"/>
                <a:ext cx="77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81320" y="4650120"/>
                <a:ext cx="158760" cy="15984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38480" y="4650120"/>
                <a:ext cx="158760" cy="159840"/>
              </a:xfrm>
              <a:prstGeom prst="diamond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038480" y="5010840"/>
              <a:ext cx="158760" cy="160200"/>
            </a:xfrm>
            <a:prstGeom prst="diamond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038480" y="5371200"/>
              <a:ext cx="1015920" cy="159840"/>
              <a:chOff x="4038480" y="5371200"/>
              <a:chExt cx="1015920" cy="159840"/>
            </a:xfrm>
          </p:grpSpPr>
          <p:sp>
            <p:nvSpPr>
              <p:cNvPr id="72" name=""/>
              <p:cNvSpPr/>
              <p:nvPr/>
            </p:nvSpPr>
            <p:spPr>
              <a:xfrm>
                <a:off x="4160880" y="5450760"/>
                <a:ext cx="77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8480" y="5371200"/>
                <a:ext cx="158760" cy="159840"/>
              </a:xfrm>
              <a:prstGeom prst="diamond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95640" y="5371200"/>
                <a:ext cx="158760" cy="159840"/>
              </a:xfrm>
              <a:prstGeom prst="diamond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895640" y="5745960"/>
              <a:ext cx="158760" cy="160200"/>
            </a:xfrm>
            <a:prstGeom prst="cube">
              <a:avLst>
                <a:gd name="adj" fmla="val 20000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895640" y="6149880"/>
              <a:ext cx="1016280" cy="159840"/>
              <a:chOff x="4895640" y="6149880"/>
              <a:chExt cx="1016280" cy="159840"/>
            </a:xfrm>
          </p:grpSpPr>
          <p:sp>
            <p:nvSpPr>
              <p:cNvPr id="77" name=""/>
              <p:cNvSpPr/>
              <p:nvPr/>
            </p:nvSpPr>
            <p:spPr>
              <a:xfrm>
                <a:off x="5018040" y="6244200"/>
                <a:ext cx="77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95640" y="6149880"/>
                <a:ext cx="158760" cy="159840"/>
              </a:xfrm>
              <a:prstGeom prst="cube">
                <a:avLst>
                  <a:gd name="adj" fmla="val 24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53160" y="6149880"/>
                <a:ext cx="158760" cy="159840"/>
              </a:xfrm>
              <a:prstGeom prst="cube">
                <a:avLst>
                  <a:gd name="adj" fmla="val 24986"/>
                </a:avLst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381720" y="6409080"/>
              <a:ext cx="272880" cy="275760"/>
            </a:xfrm>
            <a:prstGeom prst="star5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038640" y="6005520"/>
              <a:ext cx="844560" cy="390600"/>
            </a:xfrm>
            <a:custGeom>
              <a:avLst/>
              <a:gdLst>
                <a:gd name="textAreaLeft" fmla="*/ 30960 w 844560"/>
                <a:gd name="textAreaRight" fmla="*/ 813600 w 844560"/>
                <a:gd name="textAreaTop" fmla="*/ 14400 h 390600"/>
                <a:gd name="textAreaBottom" fmla="*/ 312120 h 39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683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tim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2A22-1A73-49D3-B455-C5643F29F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Johnson’s rule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1. Select a job with the shortest processing tim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If the processing time is on the first workcenter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chedule the job right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the already scheduled at the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beginning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of the list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If the processing time is on the second workcenter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chedule the job right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the already scheduled at the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 of the list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2. Cross out the scheduled job and go to 1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04C8-DED5-40BC-83B8-39E856477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Example: Johnson’s rule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1752480"/>
          <a:ext cx="815328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657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essing time 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Processing time 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27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F23E-8F04-4EDC-AAF8-0A5790AA0B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The sequence that minimizes the makespan</a:t>
            </a:r>
            <a:br>
              <a:rPr sz="3200"/>
            </a:b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A - D - B - C   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219320" y="1905120"/>
            <a:ext cx="7391160" cy="2860920"/>
            <a:chOff x="1219320" y="1905120"/>
            <a:chExt cx="7391160" cy="2860920"/>
          </a:xfrm>
        </p:grpSpPr>
        <p:sp>
          <p:nvSpPr>
            <p:cNvPr id="183" name=""/>
            <p:cNvSpPr/>
            <p:nvPr/>
          </p:nvSpPr>
          <p:spPr>
            <a:xfrm>
              <a:off x="1219320" y="19051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19320" y="4343400"/>
              <a:ext cx="73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2971800"/>
              <a:ext cx="13712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560" y="3886200"/>
              <a:ext cx="22856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0560" y="2971800"/>
              <a:ext cx="1676160" cy="4572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3886200"/>
              <a:ext cx="1599840" cy="4572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7080" y="2971800"/>
              <a:ext cx="837720" cy="45720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6760" y="3886200"/>
              <a:ext cx="609120" cy="457200"/>
            </a:xfrm>
            <a:prstGeom prst="rect">
              <a:avLst/>
            </a:prstGeom>
            <a:solidFill>
              <a:srgbClr val="fab2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05160" y="2971800"/>
              <a:ext cx="1142640" cy="457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86240" y="3886200"/>
              <a:ext cx="456840" cy="457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4367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2320" y="345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840" y="3429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832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6920" y="3429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4852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34290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4343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038480"/>
              <a:ext cx="137124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160" y="3124080"/>
              <a:ext cx="129492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5840" y="480060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e time 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5480" y="541008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pan = 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6720" y="29718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720" y="3886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6B90-89CB-48B4-88D5-C604449C6E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equence dependent set up time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t up is basically changing the work center configuration from the existing to the new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t up depends on the existing configuration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Set up time of an operation depends on previous operation done on the same work center 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Which sequence minimizes total set up time?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There are too many sequences!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29CD-CDD0-460C-9E17-78D1F02B20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cheduling Service Operations 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2600" y="1676160"/>
            <a:ext cx="69008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Bottleneck operation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Appointment system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Controls customer arrivals for servi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237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Consider patient scheduling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Reservation system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Estimates demand for servi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ing the workforce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Manages capacity for servi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ing multiple resources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Coordinates use of more than one resource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15200" y="1981080"/>
          <a:ext cx="144792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981080"/>
                    <a:ext cx="1447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238880" y="4267080"/>
          <a:ext cx="16052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4267080"/>
                    <a:ext cx="1605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562720" y="3048120"/>
          <a:ext cx="240804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3048120"/>
                    <a:ext cx="24080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B2E2-8993-42F7-8FF4-33A3F9879802}" type="slidenum">
              <a:t>24</a:t>
            </a:fld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374400"/>
            <a:ext cx="8534520" cy="55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High-Volume System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4960" y="1447560"/>
            <a:ext cx="83390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Flow system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ce2700"/>
                </a:solidFill>
                <a:latin typeface="Arial"/>
              </a:rPr>
              <a:t> High-volume system with Standardized equipment and activities. </a:t>
            </a:r>
            <a:endParaRPr b="0" lang="en-US" sz="24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Assembly line balancing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Auto, computer industry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e2700"/>
                </a:solidFill>
                <a:latin typeface="Arial"/>
              </a:rPr>
              <a:t>Flow-shop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Due to Repetition, scheduling is not a big issue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e2700"/>
                </a:solidFill>
                <a:latin typeface="Arial"/>
              </a:rPr>
              <a:t>Project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43000" y="4952880"/>
            <a:ext cx="6780600" cy="1590480"/>
            <a:chOff x="1143000" y="4952880"/>
            <a:chExt cx="6780600" cy="1590480"/>
          </a:xfrm>
        </p:grpSpPr>
        <p:grpSp>
          <p:nvGrpSpPr>
            <p:cNvPr id="85" name=""/>
            <p:cNvGrpSpPr/>
            <p:nvPr/>
          </p:nvGrpSpPr>
          <p:grpSpPr>
            <a:xfrm>
              <a:off x="1143000" y="4952880"/>
              <a:ext cx="6780600" cy="1590480"/>
              <a:chOff x="1143000" y="4952880"/>
              <a:chExt cx="6780600" cy="15904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6217920" y="4952880"/>
                <a:ext cx="1705680" cy="1590480"/>
                <a:chOff x="6217920" y="4952880"/>
                <a:chExt cx="1705680" cy="15904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322680" y="5029200"/>
                  <a:ext cx="1600920" cy="1514160"/>
                </a:xfrm>
                <a:custGeom>
                  <a:avLst/>
                  <a:gdLst/>
                  <a:ahLst/>
                  <a:rect l="l" t="t" r="r" b="b"/>
                  <a:pathLst>
                    <a:path w="917" h="954">
                      <a:moveTo>
                        <a:pt x="0" y="0"/>
                      </a:moveTo>
                      <a:lnTo>
                        <a:pt x="916" y="0"/>
                      </a:lnTo>
                      <a:lnTo>
                        <a:pt x="916" y="953"/>
                      </a:lnTo>
                      <a:lnTo>
                        <a:pt x="0" y="9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217920" y="4952880"/>
                  <a:ext cx="1705680" cy="77760"/>
                </a:xfrm>
                <a:custGeom>
                  <a:avLst/>
                  <a:gdLst/>
                  <a:ahLst/>
                  <a:rect l="l" t="t" r="r" b="b"/>
                  <a:pathLst>
                    <a:path w="977" h="49">
                      <a:moveTo>
                        <a:pt x="60" y="48"/>
                      </a:moveTo>
                      <a:lnTo>
                        <a:pt x="976" y="48"/>
                      </a:lnTo>
                      <a:lnTo>
                        <a:pt x="914" y="0"/>
                      </a:lnTo>
                      <a:lnTo>
                        <a:pt x="0" y="0"/>
                      </a:lnTo>
                      <a:lnTo>
                        <a:pt x="60" y="48"/>
                      </a:lnTo>
                    </a:path>
                  </a:pathLst>
                </a:custGeom>
                <a:solidFill>
                  <a:srgbClr val="f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217920" y="4952880"/>
                  <a:ext cx="106200" cy="1590480"/>
                </a:xfrm>
                <a:custGeom>
                  <a:avLst/>
                  <a:gdLst/>
                  <a:ahLst/>
                  <a:rect l="l" t="t" r="r" b="b"/>
                  <a:pathLst>
                    <a:path w="61" h="1002">
                      <a:moveTo>
                        <a:pt x="0" y="0"/>
                      </a:moveTo>
                      <a:lnTo>
                        <a:pt x="60" y="48"/>
                      </a:lnTo>
                      <a:lnTo>
                        <a:pt x="60" y="1001"/>
                      </a:lnTo>
                      <a:lnTo>
                        <a:pt x="0" y="9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276720" y="5180040"/>
                <a:ext cx="2980800" cy="1136520"/>
                <a:chOff x="3276720" y="5180040"/>
                <a:chExt cx="2980800" cy="1136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276720" y="5670360"/>
                  <a:ext cx="906120" cy="644400"/>
                </a:xfrm>
                <a:custGeom>
                  <a:avLst/>
                  <a:gdLst/>
                  <a:ahLst/>
                  <a:rect l="l" t="t" r="r" b="b"/>
                  <a:pathLst>
                    <a:path w="519" h="406">
                      <a:moveTo>
                        <a:pt x="455" y="0"/>
                      </a:moveTo>
                      <a:lnTo>
                        <a:pt x="518" y="49"/>
                      </a:lnTo>
                      <a:lnTo>
                        <a:pt x="61" y="405"/>
                      </a:lnTo>
                      <a:lnTo>
                        <a:pt x="0" y="357"/>
                      </a:lnTo>
                      <a:lnTo>
                        <a:pt x="455" y="0"/>
                      </a:lnTo>
                    </a:path>
                  </a:pathLst>
                </a:custGeom>
                <a:solidFill>
                  <a:srgbClr val="00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379680" y="5256000"/>
                  <a:ext cx="2877840" cy="1060560"/>
                </a:xfrm>
                <a:custGeom>
                  <a:avLst/>
                  <a:gdLst/>
                  <a:ahLst/>
                  <a:rect l="l" t="t" r="r" b="b"/>
                  <a:pathLst>
                    <a:path w="1648" h="668">
                      <a:moveTo>
                        <a:pt x="62" y="0"/>
                      </a:moveTo>
                      <a:lnTo>
                        <a:pt x="1220" y="0"/>
                      </a:lnTo>
                      <a:lnTo>
                        <a:pt x="1647" y="333"/>
                      </a:lnTo>
                      <a:lnTo>
                        <a:pt x="1220" y="667"/>
                      </a:lnTo>
                      <a:lnTo>
                        <a:pt x="0" y="667"/>
                      </a:lnTo>
                      <a:lnTo>
                        <a:pt x="458" y="310"/>
                      </a:lnTo>
                      <a:lnTo>
                        <a:pt x="62" y="0"/>
                      </a:lnTo>
                    </a:path>
                  </a:pathLst>
                </a:custGeom>
                <a:solidFill>
                  <a:srgbClr val="3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79680" y="5180040"/>
                  <a:ext cx="2132280" cy="77760"/>
                </a:xfrm>
                <a:custGeom>
                  <a:avLst/>
                  <a:gdLst/>
                  <a:ahLst/>
                  <a:rect l="l" t="t" r="r" b="b"/>
                  <a:pathLst>
                    <a:path w="1221" h="49">
                      <a:moveTo>
                        <a:pt x="1220" y="48"/>
                      </a:moveTo>
                      <a:lnTo>
                        <a:pt x="1159" y="0"/>
                      </a:lnTo>
                      <a:lnTo>
                        <a:pt x="0" y="0"/>
                      </a:lnTo>
                      <a:lnTo>
                        <a:pt x="62" y="48"/>
                      </a:lnTo>
                      <a:lnTo>
                        <a:pt x="1220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143000" y="5180040"/>
                <a:ext cx="2877480" cy="1136520"/>
                <a:chOff x="1143000" y="5180040"/>
                <a:chExt cx="2877480" cy="1136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251000" y="5256000"/>
                  <a:ext cx="2769480" cy="1060560"/>
                </a:xfrm>
                <a:custGeom>
                  <a:avLst/>
                  <a:gdLst/>
                  <a:ahLst/>
                  <a:rect l="l" t="t" r="r" b="b"/>
                  <a:pathLst>
                    <a:path w="1586" h="668">
                      <a:moveTo>
                        <a:pt x="0" y="0"/>
                      </a:moveTo>
                      <a:lnTo>
                        <a:pt x="1158" y="0"/>
                      </a:lnTo>
                      <a:lnTo>
                        <a:pt x="1585" y="333"/>
                      </a:lnTo>
                      <a:lnTo>
                        <a:pt x="1158" y="667"/>
                      </a:lnTo>
                      <a:lnTo>
                        <a:pt x="0" y="66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3000" y="5180040"/>
                  <a:ext cx="2131920" cy="77760"/>
                </a:xfrm>
                <a:custGeom>
                  <a:avLst/>
                  <a:gdLst/>
                  <a:ahLst/>
                  <a:rect l="l" t="t" r="r" b="b"/>
                  <a:pathLst>
                    <a:path w="1221" h="49">
                      <a:moveTo>
                        <a:pt x="1220" y="48"/>
                      </a:moveTo>
                      <a:lnTo>
                        <a:pt x="1159" y="0"/>
                      </a:lnTo>
                      <a:lnTo>
                        <a:pt x="0" y="0"/>
                      </a:lnTo>
                      <a:lnTo>
                        <a:pt x="62" y="48"/>
                      </a:lnTo>
                      <a:lnTo>
                        <a:pt x="1220" y="48"/>
                      </a:lnTo>
                    </a:path>
                  </a:pathLst>
                </a:custGeom>
                <a:solidFill>
                  <a:srgbClr val="9ff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143000" y="5180040"/>
                  <a:ext cx="109440" cy="1136520"/>
                </a:xfrm>
                <a:custGeom>
                  <a:avLst/>
                  <a:gdLst/>
                  <a:ahLst/>
                  <a:rect l="l" t="t" r="r" b="b"/>
                  <a:pathLst>
                    <a:path w="63" h="716">
                      <a:moveTo>
                        <a:pt x="0" y="0"/>
                      </a:moveTo>
                      <a:lnTo>
                        <a:pt x="62" y="48"/>
                      </a:lnTo>
                      <a:lnTo>
                        <a:pt x="62" y="715"/>
                      </a:lnTo>
                      <a:lnTo>
                        <a:pt x="0" y="66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422000" y="5565600"/>
              <a:ext cx="1856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er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46480" y="5565600"/>
              <a:ext cx="1856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 Cent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#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48040" y="556884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71AE-7BA8-4505-82F8-289564CC732B}" type="slidenum">
              <a:t>3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59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High-Volume Success Factor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891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Process and product design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Preventive maintenance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Rapid repair when breakdown occur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Optimal product mixe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Most profit subject to capacities = LP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Minimization of quality problem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Reliability and timing of supplie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2664-3E20-46B8-B36D-2B03C0066A43}" type="slidenum">
              <a:t>4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99520"/>
            <a:ext cx="861048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Intermediate-Volume System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7880" y="1523520"/>
            <a:ext cx="78912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Outputs are between standardized high-volume systems and made-to-order job shop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Economic run size: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388620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0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3B5F-F4C0-401B-9E62-4613542D409E}" type="slidenum">
              <a:t>5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504720"/>
            <a:ext cx="8534520" cy="40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cheduling Low-Volume Systems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280" y="16765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Low volume system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Minimal repetition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chedule from scratch every time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Loading</a:t>
            </a: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 - assignment of jobs to process centers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e2700"/>
                </a:solidFill>
                <a:uFillTx/>
                <a:latin typeface="Arial"/>
              </a:rPr>
              <a:t>Sequencing</a:t>
            </a:r>
            <a:r>
              <a:rPr b="0" lang="en-US" sz="3200" spc="-1" strike="noStrike">
                <a:solidFill>
                  <a:srgbClr val="ce2700"/>
                </a:solidFill>
                <a:latin typeface="Arial"/>
              </a:rPr>
              <a:t> - determining the order in which jobs will be processed</a:t>
            </a:r>
            <a:endParaRPr b="0" lang="en-US" sz="32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37a0"/>
                </a:solidFill>
                <a:latin typeface="Arial"/>
              </a:rPr>
              <a:t>Sequencing vs. Scheduling</a:t>
            </a:r>
            <a:endParaRPr b="0" lang="en-US" sz="28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AFAF-2C0A-43C0-8225-759B8C77EB15}" type="slidenum">
              <a:t>6</a:t>
            </a:fld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610480" cy="4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Gantt Load Chart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7880" y="1752480"/>
            <a:ext cx="78912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Gantt chart 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- used as a visual aid for loading and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Resources into rows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Time periods into columns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3657600"/>
          <a:ext cx="670572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57600"/>
                    <a:ext cx="67057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3D94-6018-489B-A908-B41C659232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600200"/>
            <a:ext cx="7891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Infinite loading: unlimited capacity, like MRP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inite loading: consider capacity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chedule construction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Vertical loading 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237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Load on 1 work center with different jobs at once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Horizontal loading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237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37a0"/>
                </a:solidFill>
                <a:latin typeface="Arial"/>
              </a:rPr>
              <a:t>Load operations of 1 job to all work center at once</a:t>
            </a:r>
            <a:endParaRPr b="0" lang="en-US" sz="20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Forward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Too much wip 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Backward scheduling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37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37a0"/>
                </a:solidFill>
                <a:latin typeface="Arial"/>
              </a:rPr>
              <a:t>Risky</a:t>
            </a: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120" y="576360"/>
            <a:ext cx="853452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Loading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E85F-124F-4680-A386-319779AD2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43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7a0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2237a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8267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Priority rules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: Simple heuristics </a:t>
            </a:r>
            <a:br>
              <a:rPr sz="2800"/>
            </a:b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used to select the order in </a:t>
            </a:r>
            <a:br>
              <a:rPr sz="2800"/>
            </a:b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which jobs will be processed.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37a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e2700"/>
                </a:solidFill>
                <a:uFillTx/>
                <a:latin typeface="Arial"/>
              </a:rPr>
              <a:t>Job time</a:t>
            </a: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: Time needed for </a:t>
            </a:r>
            <a:br>
              <a:rPr sz="2800"/>
            </a:b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setup and processing of a job. 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e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2700"/>
                </a:solidFill>
                <a:latin typeface="Arial"/>
              </a:rPr>
              <a:t>It includes set up time unless setup times are sequence dependent</a:t>
            </a:r>
            <a:endParaRPr b="0" lang="en-US" sz="2800" spc="-1" strike="noStrike">
              <a:solidFill>
                <a:srgbClr val="ce27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19920" y="2057400"/>
            <a:ext cx="3124080" cy="3487680"/>
            <a:chOff x="6019920" y="2057400"/>
            <a:chExt cx="3124080" cy="3487680"/>
          </a:xfrm>
        </p:grpSpPr>
        <p:graphicFrame>
          <p:nvGraphicFramePr>
            <p:cNvPr id="117" name=""/>
            <p:cNvGraphicFramePr/>
            <p:nvPr/>
          </p:nvGraphicFramePr>
          <p:xfrm>
            <a:off x="6019920" y="3092400"/>
            <a:ext cx="312408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92400"/>
                      <a:ext cx="312408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6342120" y="2057400"/>
              <a:ext cx="1920240" cy="1726920"/>
            </a:xfrm>
            <a:custGeom>
              <a:avLst/>
              <a:gdLst/>
              <a:ahLst/>
              <a:rect l="l" t="t" r="r" b="b"/>
              <a:pathLst>
                <a:path w="1150" h="922">
                  <a:moveTo>
                    <a:pt x="1070" y="170"/>
                  </a:moveTo>
                  <a:lnTo>
                    <a:pt x="1043" y="149"/>
                  </a:lnTo>
                  <a:lnTo>
                    <a:pt x="1014" y="125"/>
                  </a:lnTo>
                  <a:lnTo>
                    <a:pt x="981" y="104"/>
                  </a:lnTo>
                  <a:lnTo>
                    <a:pt x="954" y="88"/>
                  </a:lnTo>
                  <a:lnTo>
                    <a:pt x="906" y="65"/>
                  </a:lnTo>
                  <a:lnTo>
                    <a:pt x="850" y="45"/>
                  </a:lnTo>
                  <a:lnTo>
                    <a:pt x="808" y="32"/>
                  </a:lnTo>
                  <a:lnTo>
                    <a:pt x="762" y="20"/>
                  </a:lnTo>
                  <a:lnTo>
                    <a:pt x="723" y="14"/>
                  </a:lnTo>
                  <a:lnTo>
                    <a:pt x="677" y="6"/>
                  </a:lnTo>
                  <a:lnTo>
                    <a:pt x="640" y="2"/>
                  </a:lnTo>
                  <a:lnTo>
                    <a:pt x="593" y="0"/>
                  </a:lnTo>
                  <a:lnTo>
                    <a:pt x="549" y="0"/>
                  </a:lnTo>
                  <a:lnTo>
                    <a:pt x="489" y="4"/>
                  </a:lnTo>
                  <a:lnTo>
                    <a:pt x="440" y="11"/>
                  </a:lnTo>
                  <a:lnTo>
                    <a:pt x="397" y="20"/>
                  </a:lnTo>
                  <a:lnTo>
                    <a:pt x="344" y="30"/>
                  </a:lnTo>
                  <a:lnTo>
                    <a:pt x="307" y="41"/>
                  </a:lnTo>
                  <a:lnTo>
                    <a:pt x="264" y="55"/>
                  </a:lnTo>
                  <a:lnTo>
                    <a:pt x="211" y="78"/>
                  </a:lnTo>
                  <a:lnTo>
                    <a:pt x="168" y="101"/>
                  </a:lnTo>
                  <a:lnTo>
                    <a:pt x="130" y="126"/>
                  </a:lnTo>
                  <a:lnTo>
                    <a:pt x="101" y="150"/>
                  </a:lnTo>
                  <a:lnTo>
                    <a:pt x="76" y="173"/>
                  </a:lnTo>
                  <a:lnTo>
                    <a:pt x="35" y="225"/>
                  </a:lnTo>
                  <a:lnTo>
                    <a:pt x="18" y="260"/>
                  </a:lnTo>
                  <a:lnTo>
                    <a:pt x="4" y="303"/>
                  </a:lnTo>
                  <a:lnTo>
                    <a:pt x="0" y="335"/>
                  </a:lnTo>
                  <a:lnTo>
                    <a:pt x="4" y="374"/>
                  </a:lnTo>
                  <a:lnTo>
                    <a:pt x="11" y="401"/>
                  </a:lnTo>
                  <a:lnTo>
                    <a:pt x="23" y="435"/>
                  </a:lnTo>
                  <a:lnTo>
                    <a:pt x="44" y="471"/>
                  </a:lnTo>
                  <a:lnTo>
                    <a:pt x="78" y="511"/>
                  </a:lnTo>
                  <a:lnTo>
                    <a:pt x="122" y="549"/>
                  </a:lnTo>
                  <a:lnTo>
                    <a:pt x="170" y="580"/>
                  </a:lnTo>
                  <a:lnTo>
                    <a:pt x="218" y="606"/>
                  </a:lnTo>
                  <a:lnTo>
                    <a:pt x="251" y="620"/>
                  </a:lnTo>
                  <a:lnTo>
                    <a:pt x="264" y="655"/>
                  </a:lnTo>
                  <a:lnTo>
                    <a:pt x="284" y="691"/>
                  </a:lnTo>
                  <a:lnTo>
                    <a:pt x="309" y="730"/>
                  </a:lnTo>
                  <a:lnTo>
                    <a:pt x="335" y="761"/>
                  </a:lnTo>
                  <a:lnTo>
                    <a:pt x="370" y="802"/>
                  </a:lnTo>
                  <a:lnTo>
                    <a:pt x="406" y="832"/>
                  </a:lnTo>
                  <a:lnTo>
                    <a:pt x="442" y="857"/>
                  </a:lnTo>
                  <a:lnTo>
                    <a:pt x="482" y="881"/>
                  </a:lnTo>
                  <a:lnTo>
                    <a:pt x="534" y="905"/>
                  </a:lnTo>
                  <a:lnTo>
                    <a:pt x="585" y="921"/>
                  </a:lnTo>
                  <a:lnTo>
                    <a:pt x="534" y="886"/>
                  </a:lnTo>
                  <a:lnTo>
                    <a:pt x="499" y="856"/>
                  </a:lnTo>
                  <a:lnTo>
                    <a:pt x="469" y="823"/>
                  </a:lnTo>
                  <a:lnTo>
                    <a:pt x="437" y="787"/>
                  </a:lnTo>
                  <a:lnTo>
                    <a:pt x="414" y="753"/>
                  </a:lnTo>
                  <a:lnTo>
                    <a:pt x="394" y="717"/>
                  </a:lnTo>
                  <a:lnTo>
                    <a:pt x="377" y="676"/>
                  </a:lnTo>
                  <a:lnTo>
                    <a:pt x="371" y="659"/>
                  </a:lnTo>
                  <a:lnTo>
                    <a:pt x="411" y="666"/>
                  </a:lnTo>
                  <a:lnTo>
                    <a:pt x="466" y="676"/>
                  </a:lnTo>
                  <a:lnTo>
                    <a:pt x="528" y="679"/>
                  </a:lnTo>
                  <a:lnTo>
                    <a:pt x="568" y="682"/>
                  </a:lnTo>
                  <a:lnTo>
                    <a:pt x="606" y="681"/>
                  </a:lnTo>
                  <a:lnTo>
                    <a:pt x="641" y="679"/>
                  </a:lnTo>
                  <a:lnTo>
                    <a:pt x="682" y="676"/>
                  </a:lnTo>
                  <a:lnTo>
                    <a:pt x="729" y="669"/>
                  </a:lnTo>
                  <a:lnTo>
                    <a:pt x="781" y="657"/>
                  </a:lnTo>
                  <a:lnTo>
                    <a:pt x="835" y="642"/>
                  </a:lnTo>
                  <a:lnTo>
                    <a:pt x="877" y="630"/>
                  </a:lnTo>
                  <a:lnTo>
                    <a:pt x="926" y="606"/>
                  </a:lnTo>
                  <a:lnTo>
                    <a:pt x="959" y="591"/>
                  </a:lnTo>
                  <a:lnTo>
                    <a:pt x="998" y="568"/>
                  </a:lnTo>
                  <a:lnTo>
                    <a:pt x="1039" y="536"/>
                  </a:lnTo>
                  <a:lnTo>
                    <a:pt x="1070" y="510"/>
                  </a:lnTo>
                  <a:lnTo>
                    <a:pt x="1099" y="478"/>
                  </a:lnTo>
                  <a:lnTo>
                    <a:pt x="1124" y="438"/>
                  </a:lnTo>
                  <a:lnTo>
                    <a:pt x="1141" y="390"/>
                  </a:lnTo>
                  <a:lnTo>
                    <a:pt x="1149" y="352"/>
                  </a:lnTo>
                  <a:lnTo>
                    <a:pt x="1144" y="304"/>
                  </a:lnTo>
                  <a:lnTo>
                    <a:pt x="1136" y="274"/>
                  </a:lnTo>
                  <a:lnTo>
                    <a:pt x="1126" y="246"/>
                  </a:lnTo>
                  <a:lnTo>
                    <a:pt x="1102" y="211"/>
                  </a:lnTo>
                  <a:lnTo>
                    <a:pt x="1070" y="1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28960" y="2323800"/>
              <a:ext cx="1482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erythin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1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D847-C422-49F9-B16C-D9B70E1B1B68}" type="slidenum">
              <a:t>9</a:t>
            </a:fld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22:12:21Z</dcterms:created>
  <dc:creator>Metin</dc:creator>
  <dc:description/>
  <cp:keywords/>
  <dc:language>en-US</dc:language>
  <cp:lastModifiedBy>SOM</cp:lastModifiedBy>
  <cp:lastPrinted>1998-04-06T20:15:10Z</cp:lastPrinted>
  <dcterms:modified xsi:type="dcterms:W3CDTF">2004-11-25T00:41:44Z</dcterms:modified>
  <cp:revision>27</cp:revision>
  <dc:subject/>
  <dc:title>PRODUCTIONS/OPERATIONS MANAGEMENT</dc:title>
</cp:coreProperties>
</file>