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AD95-41CC-4ACE-AB7B-4F590C16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DA6B-7533-4020-AE10-D70413C7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A969-3C7A-4CC0-92D1-44B87296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CAC9-E95A-44F0-9198-1F7EE18B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8C1-EB14-47E7-923C-CB0C4018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BFB1-A42B-40DA-A49C-B75A269E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C812-C112-4504-B221-4612BB05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8B4E-C75C-47E2-BDAF-5F96CC01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ED5-F91C-441B-810E-F8393481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58A-C2E5-4627-B7AB-1D0F0AAB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C0B1-A544-467C-B6ED-D26EC524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E3CF-4B05-4369-8711-8775D24F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249-2D54-4854-B4BA-00297DD9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5789-DD11-40C1-AE7E-43036D0C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039-C23D-45F7-AFAC-AFF1D38A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058D-A117-4E62-B8D5-05C08E43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4775-4AFC-47DE-BFC9-BD3AB13D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25C0-1249-40BD-88C8-F7939136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C458-A46C-49C1-810C-54DF938C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3FF-E39A-4510-AF6D-E12960D4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FA41-0A05-4587-AE34-65E676F0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CAB7-7647-498E-96A8-F50BCEAC4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EC3C-3334-4BED-8661-807BA92DF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987-7729-432A-A955-92DAB2BF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D25-48B7-4A02-8817-5D0E6296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E175-93DF-4821-B65E-0D0EE3375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23D-7F39-4DE0-925A-BD052614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9B5C-0DF4-4E3E-A65A-1DF8DCF4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E7C4-8C96-4183-8E4B-A81E20EA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AD4-218C-4588-99CC-DDFC71AA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E75-9259-4D2C-87AC-92588E7E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DFBB0-8363-40AE-911A-51E2470F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756AE-FDC9-48FA-B931-9F7C6DB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62719-9E9D-4496-B935-59504B3E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983B6-7B01-4BB1-9B77-3B114CE8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BBB7D-4E38-4BBA-A706-84752F5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C47E7-F65B-4163-BF29-BAACEBE0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6F14-11DB-495D-AA41-6469B8A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1770B-8EC1-4C18-A062-A29D7F0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7C148-F5CC-4363-A399-DF7712A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96FE2-2544-4343-888A-158AC9B4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0A81C-D05E-4199-B5B7-806BBDA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7E2BE-A786-4D3D-AA49-B39FE13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79F73-5CDE-4135-86E7-ACDA2133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6E52F-5B30-4F3F-9CC0-6E9A83E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19902-300B-4E26-A901-8FFC2938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AE396-2395-4C78-9F24-CF6A26DD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BA094-3D7B-4A5F-AB24-690ABEC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C6854-4D12-4386-9FB6-79D365B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43E0-921B-4215-934E-9675EF1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9EFFC-7500-43F1-BDC2-89FEDB97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2153-309C-4948-A8A9-F623898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5A109-B411-42A1-9564-8FBE341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62E9-DB16-4BEE-A315-F5B487F4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9E51E-FE03-4C6A-9D84-D19AFE49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E6038-ABE4-495C-88FB-50A26EC0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564AF-FD31-49B1-A3BA-E29CE349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7C03E-9776-4B41-B90B-0BE80B7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E190E-7AB3-4BFB-BCDA-03A67439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A06C9-5AE5-4E60-89BE-10F7DC92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7BEDC-7C10-4175-940E-5711EC0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DB54B-A1D8-4A09-B6F7-B973AF72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3FCC8-6B10-4FCC-A6D0-E727C25E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A6194-2B25-4BEF-8843-EC2AC02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4D7B2-1177-49E2-87D8-C9E9B0F8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65AB2-B59D-4707-81CA-7296576B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313A3-479A-4C97-BC66-23FF6F2B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A66052B-3807-4249-866F-721EBFC6631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731423F-C3A2-43BF-8FC0-CE0D6E3DEF8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3505320" y="64771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33CE9D3-72B2-45FC-BDD0-660798A36D7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214509B-00BF-456F-8F65-9218CA043E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C6347AC-B9A7-4278-B2AD-080A0156B62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031176A-2AFF-4BB2-930F-EECC5F03F48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51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b8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b8262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62EB-D646-4B7C-9242-C0D3E83411F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89D-44ED-432D-BEAF-686B345B8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4600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1240" y="488880"/>
            <a:ext cx="686592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1760" y="1623600"/>
            <a:ext cx="7924680" cy="52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066680" y="1371600"/>
            <a:ext cx="739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"/>
          <p:cNvSpPr/>
          <p:nvPr/>
        </p:nvSpPr>
        <p:spPr>
          <a:xfrm flipH="1" flipV="1">
            <a:off x="8146440" y="0"/>
            <a:ext cx="996840" cy="6873840"/>
          </a:xfrm>
          <a:custGeom>
            <a:avLst/>
            <a:gdLst/>
            <a:ahLst/>
            <a:rect l="l" t="t" r="r" b="b"/>
            <a:pathLst>
              <a:path w="1253" h="5045">
                <a:moveTo>
                  <a:pt x="11" y="5045"/>
                </a:moveTo>
                <a:cubicBezTo>
                  <a:pt x="0" y="4623"/>
                  <a:pt x="110" y="3343"/>
                  <a:pt x="317" y="2502"/>
                </a:cubicBezTo>
                <a:cubicBezTo>
                  <a:pt x="524" y="1661"/>
                  <a:pt x="737" y="930"/>
                  <a:pt x="1253" y="0"/>
                </a:cubicBezTo>
                <a:lnTo>
                  <a:pt x="3" y="2"/>
                </a:lnTo>
                <a:lnTo>
                  <a:pt x="3" y="5044"/>
                </a:lnTo>
                <a:lnTo>
                  <a:pt x="11" y="5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u seal"/>
          <p:cNvPicPr/>
          <p:nvPr/>
        </p:nvPicPr>
        <p:blipFill>
          <a:blip r:embed="rId2"/>
          <a:stretch/>
        </p:blipFill>
        <p:spPr>
          <a:xfrm>
            <a:off x="8381880" y="6111720"/>
            <a:ext cx="762120" cy="6732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7"/>
          <p:cNvSpPr/>
          <p:nvPr/>
        </p:nvSpPr>
        <p:spPr>
          <a:xfrm>
            <a:off x="0" y="0"/>
            <a:ext cx="1073160" cy="7543800"/>
          </a:xfrm>
          <a:custGeom>
            <a:avLst/>
            <a:gdLst/>
            <a:ahLst/>
            <a:rect l="l" t="t" r="r" b="b"/>
            <a:pathLst>
              <a:path w="1253" h="5045">
                <a:moveTo>
                  <a:pt x="11" y="5045"/>
                </a:moveTo>
                <a:cubicBezTo>
                  <a:pt x="0" y="4623"/>
                  <a:pt x="110" y="3343"/>
                  <a:pt x="317" y="2502"/>
                </a:cubicBezTo>
                <a:cubicBezTo>
                  <a:pt x="524" y="1661"/>
                  <a:pt x="737" y="930"/>
                  <a:pt x="1253" y="0"/>
                </a:cubicBezTo>
                <a:lnTo>
                  <a:pt x="3" y="2"/>
                </a:lnTo>
                <a:lnTo>
                  <a:pt x="3" y="5044"/>
                </a:lnTo>
                <a:lnTo>
                  <a:pt x="11" y="5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71280" y="141120"/>
            <a:ext cx="80028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BDCF5DF-ADC7-480F-975F-92107D90B07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228188D-3A71-41DE-A716-0D4E3C49FB4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13C548-9E0D-4DB8-88A6-DB12AAC358A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692226A-D54E-4423-9B14-F76CB09161E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2D732DC-C7C8-4894-9F92-111DB212606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8F596F8-FC70-4C53-BCD8-0769694B54F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black_no_dropshadow2"/>
          <p:cNvPicPr/>
          <p:nvPr/>
        </p:nvPicPr>
        <p:blipFill>
          <a:blip r:embed="rId2"/>
          <a:stretch/>
        </p:blipFill>
        <p:spPr>
          <a:xfrm>
            <a:off x="8305920" y="1087560"/>
            <a:ext cx="685800" cy="284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B0215EE-E2E5-45E6-82EA-1C5EE3F6264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54113D5-1854-4022-AF51-AE9E57D7372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BB0FDEF-B6BF-4A1A-B724-30767650C01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black_no_dropshadow2"/>
          <p:cNvPicPr/>
          <p:nvPr/>
        </p:nvPicPr>
        <p:blipFill>
          <a:blip r:embed="rId2"/>
          <a:stretch/>
        </p:blipFill>
        <p:spPr>
          <a:xfrm>
            <a:off x="8305920" y="1087560"/>
            <a:ext cx="685800" cy="284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8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1143000"/>
            <a:ext cx="7848720" cy="152280"/>
          </a:xfrm>
          <a:prstGeom prst="rect">
            <a:avLst/>
          </a:prstGeom>
          <a:solidFill>
            <a:srgbClr val="b826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9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E79-3C7F-4E66-9CF6-888D173D51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505320" y="64771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cheduling – Day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jobs at a 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quencing jobs across 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Oval 4"/>
          <p:cNvSpPr/>
          <p:nvPr/>
        </p:nvSpPr>
        <p:spPr>
          <a:xfrm>
            <a:off x="762120" y="2286000"/>
            <a:ext cx="76960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1536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Across Multiple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vious rules considered scheduling (sequencing) jobs at one resour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w can we schedule jobs across multiple resources?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04920" y="13716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you work with a classmate, Kim on all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391680" y="203364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 each project you do the research, then Kim writes the re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304920" y="269712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want to complete all projects a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5083200" y="5641200"/>
            <a:ext cx="4060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should be the order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roje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3"/>
          <p:cNvSpPr/>
          <p:nvPr/>
        </p:nvSpPr>
        <p:spPr>
          <a:xfrm>
            <a:off x="5337720" y="5489640"/>
            <a:ext cx="35852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order should yo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the projects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6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3"/>
          <p:cNvSpPr/>
          <p:nvPr/>
        </p:nvSpPr>
        <p:spPr>
          <a:xfrm>
            <a:off x="472428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3"/>
          <p:cNvSpPr/>
          <p:nvPr/>
        </p:nvSpPr>
        <p:spPr>
          <a:xfrm>
            <a:off x="251460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3"/>
          <p:cNvSpPr/>
          <p:nvPr/>
        </p:nvSpPr>
        <p:spPr>
          <a:xfrm>
            <a:off x="365760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0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3"/>
          <p:cNvSpPr/>
          <p:nvPr/>
        </p:nvSpPr>
        <p:spPr>
          <a:xfrm>
            <a:off x="2971800" y="502920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0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191120" y="502920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30"/>
          <p:cNvSpPr/>
          <p:nvPr/>
        </p:nvSpPr>
        <p:spPr>
          <a:xfrm>
            <a:off x="472428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1"/>
          <p:cNvSpPr/>
          <p:nvPr/>
        </p:nvSpPr>
        <p:spPr>
          <a:xfrm>
            <a:off x="1676520" y="1828800"/>
            <a:ext cx="144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980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Plann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348000" y="1616040"/>
            <a:ext cx="3300480" cy="3603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4184640" y="1655640"/>
            <a:ext cx="16066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348000" y="2239920"/>
            <a:ext cx="3300480" cy="3603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3673440" y="2279520"/>
            <a:ext cx="26240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tegic Capacity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348000" y="2914560"/>
            <a:ext cx="3300480" cy="3621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4052880" y="2954160"/>
            <a:ext cx="1873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gregate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"/>
          <p:cNvSpPr/>
          <p:nvPr/>
        </p:nvSpPr>
        <p:spPr>
          <a:xfrm>
            <a:off x="4995720" y="1990800"/>
            <a:ext cx="1800" cy="133200"/>
          </a:xfrm>
          <a:custGeom>
            <a:avLst/>
            <a:gdLst>
              <a:gd name="textAreaLeft" fmla="*/ 0 w 1800"/>
              <a:gd name="textAreaRight" fmla="*/ 2160 w 18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" h="84">
                <a:moveTo>
                  <a:pt x="0" y="0"/>
                </a:moveTo>
                <a:lnTo>
                  <a:pt x="0" y="8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0"/>
          <p:cNvSpPr/>
          <p:nvPr/>
        </p:nvSpPr>
        <p:spPr>
          <a:xfrm>
            <a:off x="4948200" y="2084400"/>
            <a:ext cx="95400" cy="149040"/>
          </a:xfrm>
          <a:custGeom>
            <a:avLst/>
            <a:gdLst>
              <a:gd name="textAreaLeft" fmla="*/ 0 w 95400"/>
              <a:gd name="textAreaRight" fmla="*/ 95760 w 95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1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4994280" y="2622600"/>
            <a:ext cx="3240" cy="176040"/>
          </a:xfrm>
          <a:custGeom>
            <a:avLst/>
            <a:gdLst>
              <a:gd name="textAreaLeft" fmla="*/ 0 w 3240"/>
              <a:gd name="textAreaRight" fmla="*/ 3600 w 3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" h="111">
                <a:moveTo>
                  <a:pt x="1" y="0"/>
                </a:moveTo>
                <a:lnTo>
                  <a:pt x="0" y="11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2"/>
          <p:cNvSpPr/>
          <p:nvPr/>
        </p:nvSpPr>
        <p:spPr>
          <a:xfrm>
            <a:off x="4948200" y="2760840"/>
            <a:ext cx="95400" cy="149040"/>
          </a:xfrm>
          <a:custGeom>
            <a:avLst/>
            <a:gdLst>
              <a:gd name="textAreaLeft" fmla="*/ 0 w 95400"/>
              <a:gd name="textAreaRight" fmla="*/ 95760 w 95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1"/>
                </a:lnTo>
                <a:lnTo>
                  <a:pt x="59" y="0"/>
                </a:lnTo>
                <a:lnTo>
                  <a:pt x="29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1925640" y="3687840"/>
            <a:ext cx="3322800" cy="360360"/>
          </a:xfrm>
          <a:prstGeom prst="rect">
            <a:avLst/>
          </a:prstGeom>
          <a:solidFill>
            <a:srgbClr val="ffd7a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2144880" y="3727440"/>
            <a:ext cx="28652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Production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1936800" y="4379760"/>
            <a:ext cx="3300480" cy="360360"/>
          </a:xfrm>
          <a:prstGeom prst="rect">
            <a:avLst/>
          </a:prstGeom>
          <a:solidFill>
            <a:srgbClr val="ffd7a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2046240" y="4419720"/>
            <a:ext cx="30621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 Requirement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1936800" y="5075280"/>
            <a:ext cx="330048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2747880" y="5113440"/>
            <a:ext cx="1663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19"/>
          <p:cNvSpPr/>
          <p:nvPr/>
        </p:nvSpPr>
        <p:spPr>
          <a:xfrm>
            <a:off x="3587760" y="4068720"/>
            <a:ext cx="1440" cy="187200"/>
          </a:xfrm>
          <a:custGeom>
            <a:avLst/>
            <a:gdLst>
              <a:gd name="textAreaLeft" fmla="*/ 0 w 1440"/>
              <a:gd name="textAreaRight" fmla="*/ 1800 w 1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" h="118">
                <a:moveTo>
                  <a:pt x="0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0"/>
          <p:cNvSpPr/>
          <p:nvPr/>
        </p:nvSpPr>
        <p:spPr>
          <a:xfrm>
            <a:off x="3540240" y="4218120"/>
            <a:ext cx="95040" cy="149040"/>
          </a:xfrm>
          <a:custGeom>
            <a:avLst/>
            <a:gdLst>
              <a:gd name="textAreaLeft" fmla="*/ 0 w 95040"/>
              <a:gd name="textAreaRight" fmla="*/ 95400 w 950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1"/>
          <p:cNvSpPr/>
          <p:nvPr/>
        </p:nvSpPr>
        <p:spPr>
          <a:xfrm>
            <a:off x="3587760" y="4761000"/>
            <a:ext cx="1440" cy="187200"/>
          </a:xfrm>
          <a:custGeom>
            <a:avLst/>
            <a:gdLst>
              <a:gd name="textAreaLeft" fmla="*/ 0 w 1440"/>
              <a:gd name="textAreaRight" fmla="*/ 1800 w 1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" h="118">
                <a:moveTo>
                  <a:pt x="0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22"/>
          <p:cNvSpPr/>
          <p:nvPr/>
        </p:nvSpPr>
        <p:spPr>
          <a:xfrm>
            <a:off x="3540240" y="4910040"/>
            <a:ext cx="95040" cy="149400"/>
          </a:xfrm>
          <a:custGeom>
            <a:avLst/>
            <a:gdLst>
              <a:gd name="textAreaLeft" fmla="*/ 0 w 95040"/>
              <a:gd name="textAreaRight" fmla="*/ 95400 w 950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3"/>
          <p:cNvSpPr/>
          <p:nvPr/>
        </p:nvSpPr>
        <p:spPr>
          <a:xfrm>
            <a:off x="5538960" y="5029200"/>
            <a:ext cx="2217600" cy="604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613480" y="5051520"/>
            <a:ext cx="19922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ekly Workforce 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622840" y="5330880"/>
            <a:ext cx="20368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5562720" y="5925960"/>
            <a:ext cx="2217600" cy="606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5715000" y="5987880"/>
            <a:ext cx="17748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 Workforce 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8"/>
          <p:cNvSpPr/>
          <p:nvPr/>
        </p:nvSpPr>
        <p:spPr>
          <a:xfrm>
            <a:off x="5715000" y="6267600"/>
            <a:ext cx="2036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29"/>
          <p:cNvSpPr/>
          <p:nvPr/>
        </p:nvSpPr>
        <p:spPr>
          <a:xfrm>
            <a:off x="6647040" y="5651640"/>
            <a:ext cx="2880" cy="187200"/>
          </a:xfrm>
          <a:custGeom>
            <a:avLst/>
            <a:gdLst>
              <a:gd name="textAreaLeft" fmla="*/ 0 w 2880"/>
              <a:gd name="textAreaRight" fmla="*/ 3240 w 28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" h="118">
                <a:moveTo>
                  <a:pt x="1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30"/>
          <p:cNvSpPr/>
          <p:nvPr/>
        </p:nvSpPr>
        <p:spPr>
          <a:xfrm>
            <a:off x="6599160" y="5800680"/>
            <a:ext cx="96840" cy="150840"/>
          </a:xfrm>
          <a:custGeom>
            <a:avLst/>
            <a:gdLst>
              <a:gd name="textAreaLeft" fmla="*/ 0 w 96840"/>
              <a:gd name="textAreaRight" fmla="*/ 97200 w 96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1" h="95">
                <a:moveTo>
                  <a:pt x="0" y="0"/>
                </a:moveTo>
                <a:lnTo>
                  <a:pt x="30" y="12"/>
                </a:lnTo>
                <a:lnTo>
                  <a:pt x="60" y="0"/>
                </a:lnTo>
                <a:lnTo>
                  <a:pt x="30" y="9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31"/>
          <p:cNvSpPr/>
          <p:nvPr/>
        </p:nvSpPr>
        <p:spPr>
          <a:xfrm>
            <a:off x="3598920" y="3506760"/>
            <a:ext cx="1430280" cy="7452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35" h="1">
                <a:moveTo>
                  <a:pt x="0" y="0"/>
                </a:move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32"/>
          <p:cNvSpPr/>
          <p:nvPr/>
        </p:nvSpPr>
        <p:spPr>
          <a:xfrm>
            <a:off x="6673680" y="3505320"/>
            <a:ext cx="1800" cy="1404720"/>
          </a:xfrm>
          <a:custGeom>
            <a:avLst/>
            <a:gdLst>
              <a:gd name="textAreaLeft" fmla="*/ 0 w 1800"/>
              <a:gd name="textAreaRight" fmla="*/ 2160 w 1800"/>
              <a:gd name="textAreaTop" fmla="*/ 0 h 1404720"/>
              <a:gd name="textAreaBottom" fmla="*/ 1405080 h 1404720"/>
            </a:gdLst>
            <a:ahLst/>
            <a:rect l="textAreaLeft" t="textAreaTop" r="textAreaRight" b="textAreaBottom"/>
            <a:pathLst>
              <a:path w="1" h="885">
                <a:moveTo>
                  <a:pt x="0" y="0"/>
                </a:moveTo>
                <a:lnTo>
                  <a:pt x="0" y="8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33"/>
          <p:cNvSpPr/>
          <p:nvPr/>
        </p:nvSpPr>
        <p:spPr>
          <a:xfrm>
            <a:off x="6627960" y="4867200"/>
            <a:ext cx="95040" cy="150840"/>
          </a:xfrm>
          <a:custGeom>
            <a:avLst/>
            <a:gdLst>
              <a:gd name="textAreaLeft" fmla="*/ 0 w 95040"/>
              <a:gd name="textAreaRight" fmla="*/ 95400 w 95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0" h="95">
                <a:moveTo>
                  <a:pt x="0" y="0"/>
                </a:moveTo>
                <a:lnTo>
                  <a:pt x="29" y="12"/>
                </a:lnTo>
                <a:lnTo>
                  <a:pt x="59" y="0"/>
                </a:lnTo>
                <a:lnTo>
                  <a:pt x="29" y="9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4"/>
          <p:cNvSpPr/>
          <p:nvPr/>
        </p:nvSpPr>
        <p:spPr>
          <a:xfrm>
            <a:off x="3602160" y="3502080"/>
            <a:ext cx="1440" cy="61920"/>
          </a:xfrm>
          <a:custGeom>
            <a:avLst/>
            <a:gdLst>
              <a:gd name="textAreaLeft" fmla="*/ 0 w 1440"/>
              <a:gd name="textAreaRight" fmla="*/ 1800 w 14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lnTo>
                  <a:pt x="0" y="3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35"/>
          <p:cNvSpPr/>
          <p:nvPr/>
        </p:nvSpPr>
        <p:spPr>
          <a:xfrm>
            <a:off x="3554280" y="3522600"/>
            <a:ext cx="95400" cy="149400"/>
          </a:xfrm>
          <a:custGeom>
            <a:avLst/>
            <a:gdLst>
              <a:gd name="textAreaLeft" fmla="*/ 0 w 95400"/>
              <a:gd name="textAreaRight" fmla="*/ 95760 w 954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1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6"/>
          <p:cNvSpPr/>
          <p:nvPr/>
        </p:nvSpPr>
        <p:spPr>
          <a:xfrm>
            <a:off x="5003640" y="3292560"/>
            <a:ext cx="3240" cy="199800"/>
          </a:xfrm>
          <a:custGeom>
            <a:avLst/>
            <a:gdLst>
              <a:gd name="textAreaLeft" fmla="*/ 0 w 3240"/>
              <a:gd name="textAreaRight" fmla="*/ 3600 w 32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" h="126">
                <a:moveTo>
                  <a:pt x="0" y="0"/>
                </a:moveTo>
                <a:lnTo>
                  <a:pt x="1" y="12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7"/>
          <p:cNvSpPr/>
          <p:nvPr/>
        </p:nvSpPr>
        <p:spPr>
          <a:xfrm>
            <a:off x="1173240" y="1986120"/>
            <a:ext cx="507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8"/>
          <p:cNvSpPr/>
          <p:nvPr/>
        </p:nvSpPr>
        <p:spPr>
          <a:xfrm>
            <a:off x="1173240" y="2265480"/>
            <a:ext cx="6238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39"/>
          <p:cNvSpPr/>
          <p:nvPr/>
        </p:nvSpPr>
        <p:spPr>
          <a:xfrm>
            <a:off x="1100160" y="1622520"/>
            <a:ext cx="1440" cy="4930560"/>
          </a:xfrm>
          <a:custGeom>
            <a:avLst/>
            <a:gdLst>
              <a:gd name="textAreaLeft" fmla="*/ 0 w 1440"/>
              <a:gd name="textAreaRight" fmla="*/ 1800 w 1440"/>
              <a:gd name="textAreaTop" fmla="*/ 0 h 4930560"/>
              <a:gd name="textAreaBottom" fmla="*/ 4930920 h 4930560"/>
            </a:gdLst>
            <a:ahLst/>
            <a:rect l="textAreaLeft" t="textAreaTop" r="textAreaRight" b="textAreaBottom"/>
            <a:pathLst>
              <a:path w="1" h="3106">
                <a:moveTo>
                  <a:pt x="0" y="0"/>
                </a:moveTo>
                <a:lnTo>
                  <a:pt x="0" y="310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0"/>
          <p:cNvSpPr/>
          <p:nvPr/>
        </p:nvSpPr>
        <p:spPr>
          <a:xfrm>
            <a:off x="1120680" y="2668680"/>
            <a:ext cx="465120" cy="1440"/>
          </a:xfrm>
          <a:custGeom>
            <a:avLst/>
            <a:gdLst>
              <a:gd name="textAreaLeft" fmla="*/ 0 w 465120"/>
              <a:gd name="textAreaRight" fmla="*/ 465480 w 465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3" h="1">
                <a:moveTo>
                  <a:pt x="0" y="0"/>
                </a:moveTo>
                <a:lnTo>
                  <a:pt x="29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41"/>
          <p:cNvSpPr/>
          <p:nvPr/>
        </p:nvSpPr>
        <p:spPr>
          <a:xfrm>
            <a:off x="1114560" y="4916520"/>
            <a:ext cx="465120" cy="1440"/>
          </a:xfrm>
          <a:custGeom>
            <a:avLst/>
            <a:gdLst>
              <a:gd name="textAreaLeft" fmla="*/ 0 w 465120"/>
              <a:gd name="textAreaRight" fmla="*/ 465480 w 465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3" h="1">
                <a:moveTo>
                  <a:pt x="0" y="0"/>
                </a:moveTo>
                <a:lnTo>
                  <a:pt x="29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2"/>
          <p:cNvSpPr/>
          <p:nvPr/>
        </p:nvSpPr>
        <p:spPr>
          <a:xfrm>
            <a:off x="1173240" y="2871720"/>
            <a:ext cx="7412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3"/>
          <p:cNvSpPr/>
          <p:nvPr/>
        </p:nvSpPr>
        <p:spPr>
          <a:xfrm>
            <a:off x="1173240" y="315108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4"/>
          <p:cNvSpPr/>
          <p:nvPr/>
        </p:nvSpPr>
        <p:spPr>
          <a:xfrm>
            <a:off x="1173240" y="5643720"/>
            <a:ext cx="558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5"/>
          <p:cNvSpPr/>
          <p:nvPr/>
        </p:nvSpPr>
        <p:spPr>
          <a:xfrm>
            <a:off x="1173240" y="592308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6"/>
          <p:cNvSpPr/>
          <p:nvPr/>
        </p:nvSpPr>
        <p:spPr>
          <a:xfrm>
            <a:off x="1973160" y="3349800"/>
            <a:ext cx="13971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7"/>
          <p:cNvSpPr/>
          <p:nvPr/>
        </p:nvSpPr>
        <p:spPr>
          <a:xfrm>
            <a:off x="6972480" y="3432240"/>
            <a:ext cx="812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51"/>
          <p:cNvSpPr/>
          <p:nvPr/>
        </p:nvSpPr>
        <p:spPr>
          <a:xfrm>
            <a:off x="5029200" y="3505320"/>
            <a:ext cx="1676520" cy="745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35" h="1">
                <a:moveTo>
                  <a:pt x="0" y="0"/>
                </a:move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30"/>
          <p:cNvSpPr/>
          <p:nvPr/>
        </p:nvSpPr>
        <p:spPr>
          <a:xfrm>
            <a:off x="2514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30"/>
          <p:cNvSpPr/>
          <p:nvPr/>
        </p:nvSpPr>
        <p:spPr>
          <a:xfrm>
            <a:off x="2514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30"/>
          <p:cNvSpPr/>
          <p:nvPr/>
        </p:nvSpPr>
        <p:spPr>
          <a:xfrm>
            <a:off x="3657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30"/>
          <p:cNvSpPr/>
          <p:nvPr/>
        </p:nvSpPr>
        <p:spPr>
          <a:xfrm>
            <a:off x="3657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30"/>
          <p:cNvSpPr/>
          <p:nvPr/>
        </p:nvSpPr>
        <p:spPr>
          <a:xfrm>
            <a:off x="4191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9200" cy="87624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30"/>
          <p:cNvSpPr/>
          <p:nvPr/>
        </p:nvSpPr>
        <p:spPr>
          <a:xfrm>
            <a:off x="4191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9200" cy="876240"/>
          </a:xfrm>
          <a:prstGeom prst="rect">
            <a:avLst/>
          </a:prstGeom>
          <a:ln w="0">
            <a:noFill/>
          </a:ln>
        </p:spPr>
      </p:pic>
      <p:sp>
        <p:nvSpPr>
          <p:cNvPr id="1099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3048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7760" cy="876240"/>
          </a:xfrm>
          <a:prstGeom prst="rect">
            <a:avLst/>
          </a:prstGeom>
          <a:ln w="0">
            <a:noFill/>
          </a:ln>
        </p:spPr>
      </p:pic>
      <p:sp>
        <p:nvSpPr>
          <p:cNvPr id="1128" name="Line 29"/>
          <p:cNvSpPr/>
          <p:nvPr/>
        </p:nvSpPr>
        <p:spPr>
          <a:xfrm flipH="1">
            <a:off x="2057040" y="1676520"/>
            <a:ext cx="380988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0"/>
          <p:cNvSpPr/>
          <p:nvPr/>
        </p:nvSpPr>
        <p:spPr>
          <a:xfrm>
            <a:off x="6019920" y="1828800"/>
            <a:ext cx="533160" cy="5335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31"/>
          <p:cNvSpPr/>
          <p:nvPr/>
        </p:nvSpPr>
        <p:spPr>
          <a:xfrm>
            <a:off x="5932080" y="150804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2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3"/>
          <p:cNvSpPr/>
          <p:nvPr/>
        </p:nvSpPr>
        <p:spPr>
          <a:xfrm>
            <a:off x="6858000" y="1828800"/>
            <a:ext cx="304920" cy="3049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34"/>
          <p:cNvSpPr/>
          <p:nvPr/>
        </p:nvSpPr>
        <p:spPr>
          <a:xfrm>
            <a:off x="3048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1536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2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timal methods don’t exist to minimize makespa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uristic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2629"/>
                </a:solidFill>
                <a:latin typeface="Arial"/>
              </a:rPr>
              <a:t>CDS Heurist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68080" y="20574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609480" y="1447920"/>
            <a:ext cx="839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6"/>
          <p:cNvSpPr/>
          <p:nvPr/>
        </p:nvSpPr>
        <p:spPr>
          <a:xfrm>
            <a:off x="5181480" y="1447920"/>
            <a:ext cx="839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5105520" y="220968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Johnson’s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2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eu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2438280" y="205740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510"/>
                </a:lnTo>
                <a:cubicBezTo>
                  <a:pt x="10800" y="16410"/>
                  <a:pt x="16200" y="17310"/>
                  <a:pt x="21600" y="17310"/>
                </a:cubicBezTo>
                <a:cubicBezTo>
                  <a:pt x="16200" y="17310"/>
                  <a:pt x="10800" y="18210"/>
                  <a:pt x="10800" y="191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9"/>
          <p:cNvSpPr/>
          <p:nvPr/>
        </p:nvSpPr>
        <p:spPr>
          <a:xfrm>
            <a:off x="3489480" y="5221440"/>
            <a:ext cx="387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hould you cho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rule over another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7920" y="636120"/>
            <a:ext cx="839772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ca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quencing ru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1920" y="-305280"/>
            <a:ext cx="86108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lines for Selecting a Sequencing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"/>
          <p:cNvSpPr/>
          <p:nvPr/>
        </p:nvSpPr>
        <p:spPr>
          <a:xfrm>
            <a:off x="684360" y="2109960"/>
            <a:ext cx="79498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T most useful when shop is highly conge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SPO for periods of normal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EDD when only small tardiness values can be tole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FCFS when operating at low-capacity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Object 3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317680" cy="288288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4"/>
          <p:cNvSpPr/>
          <p:nvPr/>
        </p:nvSpPr>
        <p:spPr>
          <a:xfrm>
            <a:off x="853920" y="2027160"/>
            <a:ext cx="63090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abor is very flexible resour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ing workforce is complicated repetitive tas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Heuristics commonly us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912240" y="563868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We’ll cover one simple one today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ployee Scheduling Heuris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609480" y="1523880"/>
            <a:ext cx="79981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N = no. of workers available</a:t>
            </a:r>
            <a:br>
              <a:rPr sz="2000"/>
            </a:b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b82629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 = demand for workers on day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826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 in a similar manner until all days are schedu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number of workdays for full time employee &lt; 5, assign remaining workdays so consecutive days off are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ssign any remaining work to part-time employ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consecutive days off are desired, consider switching schedules among days with the same demand requir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53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5"/>
            <p:cNvSpPr/>
            <p:nvPr/>
          </p:nvSpPr>
          <p:spPr>
            <a:xfrm>
              <a:off x="727200" y="2665440"/>
              <a:ext cx="3425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5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5"/>
            <p:cNvSpPr/>
            <p:nvPr/>
          </p:nvSpPr>
          <p:spPr>
            <a:xfrm>
              <a:off x="727200" y="2665440"/>
              <a:ext cx="3425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AutoShape 8"/>
          <p:cNvSpPr/>
          <p:nvPr/>
        </p:nvSpPr>
        <p:spPr>
          <a:xfrm>
            <a:off x="13716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383040" y="3276720"/>
            <a:ext cx="8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34624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41482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48088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4946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618048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681552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750132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2829960" y="5105520"/>
            <a:ext cx="122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–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8"/>
          <p:cNvSpPr/>
          <p:nvPr/>
        </p:nvSpPr>
        <p:spPr>
          <a:xfrm>
            <a:off x="4116960" y="510552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– 3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9"/>
          <p:cNvSpPr/>
          <p:nvPr/>
        </p:nvSpPr>
        <p:spPr>
          <a:xfrm>
            <a:off x="5183280" y="5105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0"/>
          <p:cNvSpPr/>
          <p:nvPr/>
        </p:nvSpPr>
        <p:spPr>
          <a:xfrm>
            <a:off x="-109800" y="0"/>
            <a:ext cx="2415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= day work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= day 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1"/>
          <p:cNvSpPr/>
          <p:nvPr/>
        </p:nvSpPr>
        <p:spPr>
          <a:xfrm>
            <a:off x="3886200" y="2590920"/>
            <a:ext cx="38088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1348560" y="380880"/>
            <a:ext cx="7795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 in a similar manner until all days are have been schedu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7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11"/>
          <p:cNvSpPr/>
          <p:nvPr/>
        </p:nvSpPr>
        <p:spPr>
          <a:xfrm>
            <a:off x="4495680" y="33526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2"/>
          <p:cNvSpPr/>
          <p:nvPr/>
        </p:nvSpPr>
        <p:spPr>
          <a:xfrm>
            <a:off x="5181480" y="40384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3"/>
          <p:cNvSpPr/>
          <p:nvPr/>
        </p:nvSpPr>
        <p:spPr>
          <a:xfrm>
            <a:off x="5791320" y="274320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4"/>
          <p:cNvSpPr/>
          <p:nvPr/>
        </p:nvSpPr>
        <p:spPr>
          <a:xfrm>
            <a:off x="7848720" y="37339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5"/>
          <p:cNvSpPr/>
          <p:nvPr/>
        </p:nvSpPr>
        <p:spPr>
          <a:xfrm>
            <a:off x="6553080" y="3352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6"/>
          <p:cNvSpPr/>
          <p:nvPr/>
        </p:nvSpPr>
        <p:spPr>
          <a:xfrm>
            <a:off x="3886200" y="335268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7"/>
          <p:cNvSpPr/>
          <p:nvPr/>
        </p:nvSpPr>
        <p:spPr>
          <a:xfrm>
            <a:off x="5181480" y="2666880"/>
            <a:ext cx="457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8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9"/>
          <p:cNvSpPr/>
          <p:nvPr/>
        </p:nvSpPr>
        <p:spPr>
          <a:xfrm>
            <a:off x="4495680" y="26668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0"/>
          <p:cNvSpPr/>
          <p:nvPr/>
        </p:nvSpPr>
        <p:spPr>
          <a:xfrm>
            <a:off x="5867280" y="335268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21"/>
          <p:cNvSpPr/>
          <p:nvPr/>
        </p:nvSpPr>
        <p:spPr>
          <a:xfrm>
            <a:off x="6477120" y="37339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22"/>
          <p:cNvSpPr/>
          <p:nvPr/>
        </p:nvSpPr>
        <p:spPr>
          <a:xfrm>
            <a:off x="6553080" y="26668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3"/>
          <p:cNvSpPr/>
          <p:nvPr/>
        </p:nvSpPr>
        <p:spPr>
          <a:xfrm>
            <a:off x="7162920" y="2666880"/>
            <a:ext cx="457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7924680" y="2666880"/>
            <a:ext cx="457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6"/>
          <p:cNvSpPr/>
          <p:nvPr/>
        </p:nvSpPr>
        <p:spPr>
          <a:xfrm>
            <a:off x="1348560" y="380880"/>
            <a:ext cx="7795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 in a similar manner until all days are have been schedu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7"/>
          <p:cNvSpPr/>
          <p:nvPr/>
        </p:nvSpPr>
        <p:spPr>
          <a:xfrm>
            <a:off x="2829960" y="5105520"/>
            <a:ext cx="122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–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8"/>
          <p:cNvSpPr/>
          <p:nvPr/>
        </p:nvSpPr>
        <p:spPr>
          <a:xfrm>
            <a:off x="4116960" y="510552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– 3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9"/>
          <p:cNvSpPr/>
          <p:nvPr/>
        </p:nvSpPr>
        <p:spPr>
          <a:xfrm>
            <a:off x="5183280" y="5105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30"/>
          <p:cNvSpPr/>
          <p:nvPr/>
        </p:nvSpPr>
        <p:spPr>
          <a:xfrm>
            <a:off x="4495680" y="3276720"/>
            <a:ext cx="38124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Group 2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02" name="Rectangle 3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4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5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6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Text Box 8"/>
          <p:cNvSpPr/>
          <p:nvPr/>
        </p:nvSpPr>
        <p:spPr>
          <a:xfrm>
            <a:off x="8520120" y="2635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9"/>
          <p:cNvSpPr/>
          <p:nvPr/>
        </p:nvSpPr>
        <p:spPr>
          <a:xfrm>
            <a:off x="8543880" y="2940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0"/>
          <p:cNvSpPr/>
          <p:nvPr/>
        </p:nvSpPr>
        <p:spPr>
          <a:xfrm>
            <a:off x="8535960" y="33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8535960" y="3657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2"/>
          <p:cNvSpPr/>
          <p:nvPr/>
        </p:nvSpPr>
        <p:spPr>
          <a:xfrm>
            <a:off x="8535960" y="4006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8453520" y="198108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5"/>
          <p:cNvSpPr/>
          <p:nvPr/>
        </p:nvSpPr>
        <p:spPr>
          <a:xfrm>
            <a:off x="1117800" y="380880"/>
            <a:ext cx="751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f number of workdays for full time employee &lt; 5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sign remaining workdays so consecutive days off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14" name="Rectangle 3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5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6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Rectangle 14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5"/>
          <p:cNvSpPr/>
          <p:nvPr/>
        </p:nvSpPr>
        <p:spPr>
          <a:xfrm>
            <a:off x="1219320" y="5562720"/>
            <a:ext cx="67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leted schedule satisfies requirements but has no consecutive days of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21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Freeform 29"/>
          <p:cNvSpPr/>
          <p:nvPr/>
        </p:nvSpPr>
        <p:spPr>
          <a:xfrm>
            <a:off x="4724280" y="4343400"/>
            <a:ext cx="1295640" cy="622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816" h="392">
                <a:moveTo>
                  <a:pt x="0" y="48"/>
                </a:moveTo>
                <a:cubicBezTo>
                  <a:pt x="100" y="220"/>
                  <a:pt x="200" y="392"/>
                  <a:pt x="336" y="384"/>
                </a:cubicBezTo>
                <a:cubicBezTo>
                  <a:pt x="472" y="376"/>
                  <a:pt x="744" y="72"/>
                  <a:pt x="81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33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2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Rectangle 16"/>
          <p:cNvSpPr/>
          <p:nvPr/>
        </p:nvSpPr>
        <p:spPr>
          <a:xfrm>
            <a:off x="1295280" y="5486400"/>
            <a:ext cx="70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e revised schedule satisfies requirements with consecutive days off for most employ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8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15824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62120" y="1752480"/>
            <a:ext cx="792468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s with the timing of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es when resources are needed to produce a product or provide a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us decide what order to perform job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l organizations perform scheduling to some exten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33280" y="11124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712800" y="2041560"/>
            <a:ext cx="79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termine the order jobs are processed by a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jobs at a 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quencing jobs across 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533520" y="1371600"/>
            <a:ext cx="76960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 (Single Resour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r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ng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rliest Due D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ack Per Remaining Op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itical Rat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228600" y="1447920"/>
            <a:ext cx="6248520" cy="297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706080" y="205740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980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 (Single Resour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r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ng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rliest Due D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ack Per Remaining Op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itical Rat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28600" y="4572000"/>
            <a:ext cx="624852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7920" y="636120"/>
            <a:ext cx="839772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ore than current oper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work at other work centers that needs to be completed before the job is d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m Canel</dc:creator>
  <dc:description/>
  <dc:language>en-US</dc:language>
  <cp:lastModifiedBy>Rosen, Drew</cp:lastModifiedBy>
  <dcterms:modified xsi:type="dcterms:W3CDTF">2014-08-20T21:31:43Z</dcterms:modified>
  <cp:revision>117</cp:revision>
  <dc:subject/>
  <dc:title>Scheduling</dc:title>
</cp:coreProperties>
</file>